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DDC682F-05FF-448D-9853-8267B293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369484-9C63-4702-A90D-62C787B7C5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C88764-B393-4FA2-982A-700C3F80F2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0004E5-3E82-444E-A2D6-F02BF53DCE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A300E50-EF17-45E8-BACF-6F1AB5312C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9BEEEA6-A973-4079-9222-937A6AB07C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6BA10A6-D1B9-4DCC-A36A-0E042AAB5F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328CC5-74B6-47C2-A900-585CA60914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1BFAE3E-0592-4F56-A45C-CB5F3FD5D9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91D117-46FC-4708-8230-7B41E9BF8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8414A9-E85B-451D-A294-1B0994CDF6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D68978-FA63-4511-BEEC-9F81580728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11450B-B452-4EC2-AE63-F6EC964B36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40BCDB8-DCB8-4B6C-994D-BF1B584DD1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9DD902-68F6-4341-AA86-ADCAA4D259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EC83E6-1EDA-4184-88B8-A1CADCDA99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9C8AA3-624A-41ED-A54D-AB79507A69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21B3D8-E967-48FC-9CF5-DAA81E3CCE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3C7502A-D464-4F4D-B059-1CA466D3C4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40D789-BF60-401B-A4FA-0F72EE7408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5D1147-AACE-49E6-A391-7CF4C47EBA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720A07-B487-4D58-9E41-F23A8A789D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EB46AA0-93C0-44C1-ADA2-5EE3D7D721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67B52A-08BC-47B2-B58C-808AEF1E89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87F167-01CE-42B0-AF15-88D76ED655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4D13B9B-D9C4-44FA-9353-B8204ACBE9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9E76A6-D0A1-4750-B316-C2D6D60D4C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9A929E-1FCB-4846-83FF-79B222223D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EAA1B3-0CB9-448B-B08B-ADFB9D7A13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0ACF8E7-5819-4142-BB94-FC7368A7B0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6A029D-EBC9-4DD8-A5EA-F112E9D28F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4ED-8B26-4760-8077-F812619C2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4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on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PA  Guidelin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Publication Manual of the) American Psychological Association (AP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eference format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style is described in the fifth edi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ation Manual of the American Psychological Associatio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reference book that contains hundreds of guidelines on how to format references, statistics, tables, punctuation, and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contains writing tips and instructions about how to format manuscr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ntistalking Site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lking Resource Cen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wide range of useful information for practitio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ls include research on stalking, practitioner-specific educational tools, multidisciplinary curricula, model protocols, and m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information about stalking laws in the following 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minal stalking laws 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vil stalking laws b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bal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interstate stalking sta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laws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ing stalking la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lking protection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www.ncvc.org/src/main.aspx?dbID=dash_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ildren, Youth, and Family Consort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Welfare Inform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tional Center for Missing and Exploited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ild Abuse Prevention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cy Faulkner’s Pandora’s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 Abu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Association of Guardian Ad L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Research on Violence against Women and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Department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s and Children Together Against Vio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ffice of Juvenile Justice and Delin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Professional Society on the Abuse of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Death Investig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Trends in Child Abuse Reporting and Fatalities: The Results of the 2000 Annual Fifty-State Surv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gency Council on Child Abuse and Neglect, administers the National Center on Child Fatalit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n Baby Al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SIDS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ild Mentoring and Prevention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’s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Brothers/Big Sister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Scout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s and Girls Clubs of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riminal Justice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form Crime Repor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cident-Based Repor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N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por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J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V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Citizens Crime Prevention 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NCJRS:  Contributing agenci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838080"/>
            <a:ext cx="834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Justice Programs (OJP), U.S. Department of 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the Assistant Attorney General (OA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s Program Office (C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Courts Program Office (DC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 for Weed and Seed (E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for Domestic Preparedness (O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the Police Corps and Law Enforcement Education (OPCL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ence Against Women Office (VA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of Justice Assistance (B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of Justice Statistics (BJ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Justice (NI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for Victims of Crime (OV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Juvenile Justice and Delinquency Prevention (OJJ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of National Drug Control Policy (ONDCP), Executive Office of the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sability Resourc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ericans With Disabilitie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for Research on Women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titute on Community Integ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BT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and Lesbian Domestic Violence 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ty United Against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buse for Every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y Men’s Domestic Violenc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pus Christie Police Department in Tex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neral Inform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Violence Prevention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esota Center Against Violence an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 violence is an emerging field of study that is frequently changing and being updated with new exciting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is an important resource on domestic violence, since all studies conducted with federal government funding are now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and federal laws are often posted along with a legal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upreme Court decisions are available more quickly than from traditional 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rofit organizations and self-help groups are accessible and share resources over the Int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job postings are listed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lobal Informa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n Domestic and Family Violence Clearing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Al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’s Right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rn Ireland Women’s Aid Fe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men’s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Violence Prevention F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Rights Watch Global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overnment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eau of Justice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inal vic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tions under correctional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criminal offenders and case proces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ic data series includ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of law enforcement agencies and correctional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ecutorial practices and po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court cas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ony conv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 of correctional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inal justice expenditure and 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case processing in state co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tudies on other criminal justice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titute on Domestic Violence in the African American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ian &amp; Pacific Islander Institute on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ewish Coalition Against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Latino Alliance for the Elimination of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omestic Abuse Helpline fo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ttered Women’s Justice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Violence (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ontinued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Online Resource Center on   Violence against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to Mending the Sacred Ho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Indian Child Welfare Associ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bal Court Clearing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-Involved Domestic Violenc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Violence Survival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ional Coalition against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minist Majority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Judicial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Judges Associ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Domestic Violence and the Courtroom—Understanding The Problem…Knowing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American Indian Court Judges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Council of Juvenile and Family Court Judg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mily Violenc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aw Enforcement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3712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me Sp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Cecil Greek criminal justice pages, F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estic Violence section of the Metro Nashville Polic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Angeles Polic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egal Sit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and local government web pages is a Library of Congress Internet resourc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Bar Association’s Commission on Domestic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l Code on Domestic and Family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BC Guide for Judges Handling Interstate Cases Involving Children and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formation Institute, U. S. Supreme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aw: Internet Leg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rital and Date Rap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mpus Gender Violenc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Enforcement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rugs of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 Ove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enter for Victims of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een Dating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thInf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Teen Dating Abuse Ho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outh Violence Prevention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Violence Enhance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ctim’s Assista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Department of Justice, the National Victim Assistance Acade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Against Violenc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enter for Victims of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62120" y="990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es identify a location on the Internet as an address known as the uniform resource locator (URL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art of any domain name identifies the person, place, or organization located at the addre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part of the domain name identifies the group to which the address belo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Older Adul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29528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Clearinghouse on Abuse in Lat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ministration of 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enter on Elder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earinghouse on Abuse and Neglect of the Eld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rld Wide Web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pular network service on the Internet is called the World Wid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1991, the Web, or WWW, supports graphics, audio, and video in addition to 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ld Wide Web is a system of interlinked hypertext documents accessed via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think of the Internet and the World Wide Web as being the same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 is merely one of the many services that can be accessed over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rowser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wser is a program used for viewing Web sites on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indows PC browse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Internet Explor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zilla Firefox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ar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users may be interested in Safari, Mozilla Firefox, Opera, and Shi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etting Onto the World Wide Web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use of the Internet is for commun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do use the World Wide Web to communicate with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can occur in two ways: on a personal level or the group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munication is accomplished through e-ma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method is on the group level, this refers to user and chat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sics of the Internet Search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ory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tree style catalogs, organizes into major top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times called worms, spiders, harvester, or wander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engines and directory and eliminates duplicate results, takes longer because engine must process more information before producing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valuating Your Sour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post information on the World Wide We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ne needs is an ISP, a computer that will offer access to the Internet and store that information for others to retrie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s that there is a lot of junk ou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iminating surfers understand that information obtained through the World Wide Web must be scrutinized for its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ix Step Mod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utinize your online sources with this six step model.  If you cannot answer these questions, to find alternative information that is more suitable for your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44:01Z</dcterms:modified>
  <cp:revision>133</cp:revision>
  <dc:subject/>
  <dc:title>Slide 1</dc:title>
</cp:coreProperties>
</file>